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11.png" ContentType="image/png"/>
  <Override PartName="/ppt/media/image12.jpeg" ContentType="image/jpeg"/>
  <Override PartName="/ppt/media/image6.wmf" ContentType="image/x-wmf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AF065-C668-411E-8A4E-2FF5A5026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39CAC-78A6-4DE6-8647-1F6CAB255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D1ACA-67E5-4B76-86CE-4A6F55D6B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20D6C-E3F0-4AFB-86F2-FE51E0061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1585D-32E2-4DF7-9AF5-5C7A7EA0D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1DE3A-DB4A-40BB-8DEC-35246FE94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A35DB-BD0A-4B45-BC52-63BB57630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62E61-C277-4ADD-99BD-01BF8F9FF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82297-10D7-42C4-8FEA-2DEED238F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49BCC-B1FC-41F9-A653-EC7F11C30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F587F-E26F-40D7-8C7D-7D76686E1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66C0F-8638-43D3-A07C-157439903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74476-DE98-4522-B4C8-62685A86B672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agen 3" descr=""/>
          <p:cNvPicPr/>
          <p:nvPr/>
        </p:nvPicPr>
        <p:blipFill>
          <a:blip r:embed="rId1"/>
          <a:stretch/>
        </p:blipFill>
        <p:spPr>
          <a:xfrm>
            <a:off x="0" y="6270480"/>
            <a:ext cx="8894880" cy="59688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"/>
          <p:cNvSpPr/>
          <p:nvPr/>
        </p:nvSpPr>
        <p:spPr>
          <a:xfrm>
            <a:off x="522360" y="461880"/>
            <a:ext cx="7848360" cy="579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s-ES" sz="4400" spc="-1" strike="noStrike">
                <a:solidFill>
                  <a:srgbClr val="000000"/>
                </a:solidFill>
                <a:latin typeface="Arial Narrow"/>
              </a:rPr>
              <a:t>AJUSTE FINO” ZONAS CON LIMITACIONES NATUR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 Narrow"/>
              </a:rPr>
              <a:t>EXTREMADURA</a:t>
            </a:r>
            <a:r>
              <a:rPr b="0" lang="es-ES" sz="4400" spc="-1" strike="noStrike">
                <a:solidFill>
                  <a:srgbClr val="000000"/>
                </a:solidFill>
                <a:latin typeface="Arial Narrow"/>
                <a:ea typeface="Tahom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 Narrow"/>
                <a:ea typeface="Tahoma"/>
              </a:rPr>
              <a:t>COMITÉ DE SEGUIMIEN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 Narrow"/>
                <a:ea typeface="Tahoma"/>
              </a:rPr>
              <a:t>PDR EXTREMADURA 2014-2022</a:t>
            </a:r>
            <a:r>
              <a:rPr b="1" lang="pl-PL" sz="4400" spc="-1" strike="noStrike">
                <a:solidFill>
                  <a:srgbClr val="000000"/>
                </a:solidFill>
                <a:latin typeface="Arial Narrow"/>
                <a:ea typeface="Tahom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 Narrow"/>
                <a:ea typeface="Tahoma"/>
              </a:rPr>
              <a:t>20 junio 20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Imagen 3" descr=""/>
          <p:cNvPicPr/>
          <p:nvPr/>
        </p:nvPicPr>
        <p:blipFill>
          <a:blip r:embed="rId1"/>
          <a:stretch/>
        </p:blipFill>
        <p:spPr>
          <a:xfrm>
            <a:off x="0" y="6270480"/>
            <a:ext cx="8894880" cy="596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1" name=""/>
          <p:cNvGraphicFramePr/>
          <p:nvPr/>
        </p:nvGraphicFramePr>
        <p:xfrm>
          <a:off x="2317680" y="2062080"/>
          <a:ext cx="4257720" cy="3803760"/>
        </p:xfrm>
        <a:graphic>
          <a:graphicData uri="http://schemas.openxmlformats.org/drawingml/2006/table">
            <a:tbl>
              <a:tblPr/>
              <a:tblGrid>
                <a:gridCol w="1330560"/>
                <a:gridCol w="2927160"/>
              </a:tblGrid>
              <a:tr h="760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PROVINC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MUNICIP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908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BADAJOZ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Acede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BADAJOZ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Badajoz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BADAJOZ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Cristi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9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BADAJOZ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Don Beni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BADAJOZ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Guadia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BADAJOZ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Guareñ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BADAJOZ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Manchi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BADAJOZ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Medellí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9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BADAJOZ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Mengabri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BADAJOZ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Pueblonuevo del Guadia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8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BADAJOZ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Re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BADAJOZ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Santa Amal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BADAJOZ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Valdelacalza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9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BADAJOZ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Valdetorr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BADAJOZ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Villanueva de la Sere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BADAJOZ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Villar de Re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" name="Rectángulo 3"/>
          <p:cNvSpPr/>
          <p:nvPr/>
        </p:nvSpPr>
        <p:spPr>
          <a:xfrm>
            <a:off x="1003320" y="1057320"/>
            <a:ext cx="7297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Dieciséis municipios que en el período 2007 –2013, no reunían la consideración de desfavorecidos por despoblamiento, </a:t>
            </a:r>
            <a:r>
              <a:rPr b="1" lang="es-ES" sz="1800" spc="-1" strike="noStrike">
                <a:solidFill>
                  <a:srgbClr val="0070c0"/>
                </a:solidFill>
                <a:latin typeface="Arial Narrow"/>
                <a:ea typeface="Times New Roman"/>
              </a:rPr>
              <a:t>pasan a tener la consideración de ZONAS CON LIMITACIONES NATURALES SIGNIFICATIV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0" y="0"/>
            <a:ext cx="9144000" cy="444600"/>
          </a:xfrm>
          <a:prstGeom prst="rect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8 Rectángulo"/>
          <p:cNvSpPr/>
          <p:nvPr/>
        </p:nvSpPr>
        <p:spPr>
          <a:xfrm>
            <a:off x="0" y="0"/>
            <a:ext cx="9144000" cy="69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 Narrow"/>
                <a:ea typeface="Arial"/>
              </a:rPr>
              <a:t>ZONAS DISTINTAS DE LAS DE MONTAÑA CON LIMITACIONES NATURALES SIGNIFICATIV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82"/>
          <p:cNvSpPr/>
          <p:nvPr/>
        </p:nvSpPr>
        <p:spPr>
          <a:xfrm>
            <a:off x="0" y="606600"/>
            <a:ext cx="4211640" cy="368280"/>
          </a:xfrm>
          <a:prstGeom prst="rect">
            <a:avLst/>
          </a:prstGeom>
          <a:solidFill>
            <a:srgbClr val="ed7d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 Narrow"/>
                <a:ea typeface="Tahoma"/>
              </a:rPr>
              <a:t>SUBMEDIDA 13.2. AJUSTE GRUE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Imagen 3" descr=""/>
          <p:cNvPicPr/>
          <p:nvPr/>
        </p:nvPicPr>
        <p:blipFill>
          <a:blip r:embed="rId1"/>
          <a:stretch/>
        </p:blipFill>
        <p:spPr>
          <a:xfrm>
            <a:off x="0" y="6270480"/>
            <a:ext cx="8894880" cy="596880"/>
          </a:xfrm>
          <a:prstGeom prst="rect">
            <a:avLst/>
          </a:prstGeom>
          <a:ln w="0">
            <a:noFill/>
          </a:ln>
        </p:spPr>
      </p:pic>
      <p:sp>
        <p:nvSpPr>
          <p:cNvPr id="87" name="Rectángulo 3"/>
          <p:cNvSpPr/>
          <p:nvPr/>
        </p:nvSpPr>
        <p:spPr>
          <a:xfrm>
            <a:off x="923760" y="1197000"/>
            <a:ext cx="729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Seis municipios que en el período 2007 –2013, reunían la consideración de desfavorecidos, </a:t>
            </a:r>
            <a:r>
              <a:rPr b="1" lang="es-ES" sz="1800" spc="-1" strike="noStrike">
                <a:solidFill>
                  <a:srgbClr val="0070c0"/>
                </a:solidFill>
                <a:latin typeface="Arial Narrow"/>
                <a:ea typeface="Times New Roman"/>
              </a:rPr>
              <a:t>pasan a tener la consideración de ZONAS ORDINAR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"/>
          <p:cNvSpPr/>
          <p:nvPr/>
        </p:nvSpPr>
        <p:spPr>
          <a:xfrm>
            <a:off x="0" y="0"/>
            <a:ext cx="9144000" cy="444600"/>
          </a:xfrm>
          <a:prstGeom prst="rect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8 Rectángulo"/>
          <p:cNvSpPr/>
          <p:nvPr/>
        </p:nvSpPr>
        <p:spPr>
          <a:xfrm>
            <a:off x="0" y="0"/>
            <a:ext cx="9144000" cy="69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 Narrow"/>
                <a:ea typeface="Arial"/>
              </a:rPr>
              <a:t>ZONAS DISTINTAS DE LAS DE MONTAÑA CON LIMITACIONES NATURALES SIGNIFICATIV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82"/>
          <p:cNvSpPr/>
          <p:nvPr/>
        </p:nvSpPr>
        <p:spPr>
          <a:xfrm>
            <a:off x="0" y="606600"/>
            <a:ext cx="4211640" cy="368280"/>
          </a:xfrm>
          <a:prstGeom prst="rect">
            <a:avLst/>
          </a:prstGeom>
          <a:solidFill>
            <a:srgbClr val="ed7d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 Narrow"/>
                <a:ea typeface="Tahoma"/>
              </a:rPr>
              <a:t>SUBMEDIDA 13.2. AJUSTE GRUE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1981080" y="2876400"/>
          <a:ext cx="4748400" cy="2054520"/>
        </p:xfrm>
        <a:graphic>
          <a:graphicData uri="http://schemas.openxmlformats.org/drawingml/2006/table">
            <a:tbl>
              <a:tblPr/>
              <a:tblGrid>
                <a:gridCol w="2327400"/>
                <a:gridCol w="2421000"/>
              </a:tblGrid>
              <a:tr h="29376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PROVINC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MUNICIP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2937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CÁCER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Casatejad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CÁCER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Majad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CÁCER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Arial Unicode MS"/>
                        </a:rPr>
                        <a:t>Pueblonuevo de Miramont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CÁCER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Arial Unicode MS"/>
                        </a:rPr>
                        <a:t>Rosalej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CÁCER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Arial Unicode MS"/>
                        </a:rPr>
                        <a:t>Talayuel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CÁCER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Arial Unicode MS"/>
                        </a:rPr>
                        <a:t>Tiét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Imagen 3" descr=""/>
          <p:cNvPicPr/>
          <p:nvPr/>
        </p:nvPicPr>
        <p:blipFill>
          <a:blip r:embed="rId1"/>
          <a:stretch/>
        </p:blipFill>
        <p:spPr>
          <a:xfrm>
            <a:off x="0" y="6270480"/>
            <a:ext cx="8894880" cy="59688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1"/>
          <p:cNvSpPr/>
          <p:nvPr/>
        </p:nvSpPr>
        <p:spPr>
          <a:xfrm>
            <a:off x="0" y="0"/>
            <a:ext cx="9144000" cy="444600"/>
          </a:xfrm>
          <a:prstGeom prst="rect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8 Rectángulo"/>
          <p:cNvSpPr/>
          <p:nvPr/>
        </p:nvSpPr>
        <p:spPr>
          <a:xfrm>
            <a:off x="0" y="0"/>
            <a:ext cx="9144000" cy="69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 Narrow"/>
                <a:ea typeface="Arial"/>
              </a:rPr>
              <a:t>ZONAS DISTINTAS DE LAS DE MONTAÑA CON LIMITACIONES NATURALES SIGNIFICATIV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82"/>
          <p:cNvSpPr/>
          <p:nvPr/>
        </p:nvSpPr>
        <p:spPr>
          <a:xfrm>
            <a:off x="0" y="606600"/>
            <a:ext cx="4211640" cy="368280"/>
          </a:xfrm>
          <a:prstGeom prst="rect">
            <a:avLst/>
          </a:prstGeom>
          <a:solidFill>
            <a:srgbClr val="ed7d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 Narrow"/>
                <a:ea typeface="Tahoma"/>
              </a:rPr>
              <a:t>SUBMEDIDA 13.2. AJUSTE FI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ángulo 5"/>
          <p:cNvSpPr/>
          <p:nvPr/>
        </p:nvSpPr>
        <p:spPr>
          <a:xfrm>
            <a:off x="439560" y="1671480"/>
            <a:ext cx="8336160" cy="45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Se proponen distintos métodos</a:t>
            </a:r>
            <a:r>
              <a:rPr b="0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Inversiones que podrían considerarse en frente al criterio de aridez (regadío, invernadero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Actividad económica. Producción stand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Rendimiento medio de un cultivo domina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Carga ganade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Cultivos permanentes / densidad de árbo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roductividad normal de la tier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Sistema agrarios y métodos de produc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ángulo 6"/>
          <p:cNvSpPr/>
          <p:nvPr/>
        </p:nvSpPr>
        <p:spPr>
          <a:xfrm>
            <a:off x="314280" y="1000080"/>
            <a:ext cx="8580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Documento (07/2016) Ajuste fino para limitaciones naturales y específicas significativ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Imagen 3" descr=""/>
          <p:cNvPicPr/>
          <p:nvPr/>
        </p:nvPicPr>
        <p:blipFill>
          <a:blip r:embed="rId1"/>
          <a:stretch/>
        </p:blipFill>
        <p:spPr>
          <a:xfrm>
            <a:off x="0" y="6270480"/>
            <a:ext cx="8894880" cy="596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9" name=""/>
          <p:cNvGraphicFramePr/>
          <p:nvPr/>
        </p:nvGraphicFramePr>
        <p:xfrm>
          <a:off x="2097000" y="4282920"/>
          <a:ext cx="6562800" cy="1920960"/>
        </p:xfrm>
        <a:graphic>
          <a:graphicData uri="http://schemas.openxmlformats.org/drawingml/2006/table">
            <a:tbl>
              <a:tblPr/>
              <a:tblGrid>
                <a:gridCol w="878040"/>
                <a:gridCol w="2143080"/>
                <a:gridCol w="830160"/>
                <a:gridCol w="976320"/>
                <a:gridCol w="939960"/>
                <a:gridCol w="795240"/>
              </a:tblGrid>
              <a:tr h="42660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PR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Municip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Sup. Total (Km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SAU_TO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Sup regadí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% regadio &gt; 7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213480"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BADAJOZ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Medellí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64,9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.563,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.334,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73,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BADAJOZ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Puebla de la Calzad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4,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900,8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705,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78,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BADAJOZ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Re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0,7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714,9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41,9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75,7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BADAJOZ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Santa Amal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73,5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6.117,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.695,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76,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BADAJOZ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Villar de Re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82,3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.994,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.290,7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88,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BADAJOZ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Valdelacalzad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1,7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.974,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.838,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93,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BADAJOZ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Pueblonuevo del Guadia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8,5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.043,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.606,9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78,6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0" name="Rectangle 2"/>
          <p:cNvSpPr/>
          <p:nvPr/>
        </p:nvSpPr>
        <p:spPr>
          <a:xfrm>
            <a:off x="444600" y="591120"/>
            <a:ext cx="82548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Se ha utilizado el ajuste de las </a:t>
            </a:r>
            <a:r>
              <a:rPr b="1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superficies de regadío</a:t>
            </a:r>
            <a:r>
              <a:rPr b="0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, entendiendo que es un </a:t>
            </a:r>
            <a:r>
              <a:rPr b="1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sistema agrícola de explotación diferenciado, posibilita la existencia de cultivos y producciones muy superiores a las superficies de secano</a:t>
            </a:r>
            <a:r>
              <a:rPr b="0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, de modo que el rendimiento económico obtenido </a:t>
            </a:r>
            <a:r>
              <a:rPr b="1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ermite considerar superadas las limitaciones naturales existe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Con </a:t>
            </a:r>
            <a:r>
              <a:rPr b="1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las simulaciones efectuadas </a:t>
            </a:r>
            <a:r>
              <a:rPr b="0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ara la designación de las zonas con limitaciones naturales significativas tras el ajuste de las superficies de regadío, existen </a:t>
            </a:r>
            <a:r>
              <a:rPr b="1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seis municipios en los que su superficie agrícola de regadío no cumple los umbrales mínimos de los criterios empleados en la delimitación</a:t>
            </a:r>
            <a:r>
              <a:rPr b="0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. La relación de municipios que quedarían excluidos de las zonas con limitaciones naturales son (% SAU superior al 70%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"/>
          <p:cNvSpPr/>
          <p:nvPr/>
        </p:nvSpPr>
        <p:spPr>
          <a:xfrm>
            <a:off x="0" y="0"/>
            <a:ext cx="9144000" cy="444600"/>
          </a:xfrm>
          <a:prstGeom prst="rect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8 Rectángulo"/>
          <p:cNvSpPr/>
          <p:nvPr/>
        </p:nvSpPr>
        <p:spPr>
          <a:xfrm>
            <a:off x="0" y="0"/>
            <a:ext cx="9144000" cy="69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 Narrow"/>
                <a:ea typeface="Arial"/>
              </a:rPr>
              <a:t>ZONAS DISTINTAS DE LAS DE MONTAÑA CON LIMITACIONES NATURALES SIGNIFICATIV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82"/>
          <p:cNvSpPr/>
          <p:nvPr/>
        </p:nvSpPr>
        <p:spPr>
          <a:xfrm>
            <a:off x="0" y="4630680"/>
            <a:ext cx="1828800" cy="642600"/>
          </a:xfrm>
          <a:prstGeom prst="rect">
            <a:avLst/>
          </a:prstGeom>
          <a:solidFill>
            <a:srgbClr val="ed7d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 Narrow"/>
                <a:ea typeface="Tahoma"/>
              </a:rPr>
              <a:t>SUBMEDIDA 13.2. AJUSTE FI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Imagen 3" descr=""/>
          <p:cNvPicPr/>
          <p:nvPr/>
        </p:nvPicPr>
        <p:blipFill>
          <a:blip r:embed="rId1"/>
          <a:stretch/>
        </p:blipFill>
        <p:spPr>
          <a:xfrm>
            <a:off x="0" y="6270480"/>
            <a:ext cx="8894880" cy="596880"/>
          </a:xfrm>
          <a:prstGeom prst="rect">
            <a:avLst/>
          </a:prstGeom>
          <a:ln w="0">
            <a:noFill/>
          </a:ln>
        </p:spPr>
      </p:pic>
      <p:pic>
        <p:nvPicPr>
          <p:cNvPr id="105" name="Imagen 2" descr=""/>
          <p:cNvPicPr/>
          <p:nvPr/>
        </p:nvPicPr>
        <p:blipFill>
          <a:blip r:embed="rId2"/>
          <a:stretch/>
        </p:blipFill>
        <p:spPr>
          <a:xfrm>
            <a:off x="1125360" y="0"/>
            <a:ext cx="6643800" cy="6140520"/>
          </a:xfrm>
          <a:prstGeom prst="rect">
            <a:avLst/>
          </a:prstGeom>
          <a:ln w="0">
            <a:noFill/>
          </a:ln>
        </p:spPr>
      </p:pic>
      <p:pic>
        <p:nvPicPr>
          <p:cNvPr id="106" name="Imagen 4" descr=""/>
          <p:cNvPicPr/>
          <p:nvPr/>
        </p:nvPicPr>
        <p:blipFill>
          <a:blip r:embed="rId3"/>
          <a:stretch/>
        </p:blipFill>
        <p:spPr>
          <a:xfrm>
            <a:off x="6664320" y="401760"/>
            <a:ext cx="1266840" cy="1095120"/>
          </a:xfrm>
          <a:prstGeom prst="rect">
            <a:avLst/>
          </a:prstGeom>
          <a:ln w="0">
            <a:noFill/>
          </a:ln>
        </p:spPr>
      </p:pic>
      <p:sp>
        <p:nvSpPr>
          <p:cNvPr id="107" name="CuadroTexto 5"/>
          <p:cNvSpPr/>
          <p:nvPr/>
        </p:nvSpPr>
        <p:spPr>
          <a:xfrm>
            <a:off x="7091280" y="627120"/>
            <a:ext cx="132264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Arial Narrow"/>
                <a:ea typeface="Arial"/>
              </a:rPr>
              <a:t>ZONA ORDINARI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CuadroTexto 6"/>
          <p:cNvSpPr/>
          <p:nvPr/>
        </p:nvSpPr>
        <p:spPr>
          <a:xfrm>
            <a:off x="7091280" y="841320"/>
            <a:ext cx="158436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Arial Narrow"/>
                <a:ea typeface="Arial"/>
              </a:rPr>
              <a:t>ZONA LIMITACIONES MONTAÑ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CuadroTexto 7"/>
          <p:cNvSpPr/>
          <p:nvPr/>
        </p:nvSpPr>
        <p:spPr>
          <a:xfrm>
            <a:off x="7080120" y="1068480"/>
            <a:ext cx="181476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Arial Narrow"/>
                <a:ea typeface="Arial"/>
              </a:rPr>
              <a:t>ZONA LIMITACIONES ESPECÍFICA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CuadroTexto 8"/>
          <p:cNvSpPr/>
          <p:nvPr/>
        </p:nvSpPr>
        <p:spPr>
          <a:xfrm>
            <a:off x="7091280" y="1282680"/>
            <a:ext cx="15843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Arial Narrow"/>
                <a:ea typeface="Arial"/>
              </a:rPr>
              <a:t>ZONA LIMITACIONES NATURA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CuadroTexto 9"/>
          <p:cNvSpPr/>
          <p:nvPr/>
        </p:nvSpPr>
        <p:spPr>
          <a:xfrm>
            <a:off x="5997600" y="4983120"/>
            <a:ext cx="289728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EXTREMAD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Z. L. 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Arial"/>
                <a:ea typeface="Arial"/>
              </a:rPr>
              <a:t>DELIMITACIÓN ACT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82"/>
          <p:cNvSpPr/>
          <p:nvPr/>
        </p:nvSpPr>
        <p:spPr>
          <a:xfrm>
            <a:off x="0" y="3619440"/>
            <a:ext cx="1838160" cy="368280"/>
          </a:xfrm>
          <a:prstGeom prst="rect">
            <a:avLst/>
          </a:prstGeom>
          <a:solidFill>
            <a:srgbClr val="ed7d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 Narrow"/>
                <a:ea typeface="Tahoma"/>
              </a:rPr>
              <a:t>SUBMEDIDA 13.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Imagen 3" descr=""/>
          <p:cNvPicPr/>
          <p:nvPr/>
        </p:nvPicPr>
        <p:blipFill>
          <a:blip r:embed="rId1"/>
          <a:stretch/>
        </p:blipFill>
        <p:spPr>
          <a:xfrm>
            <a:off x="0" y="6270480"/>
            <a:ext cx="8894880" cy="59688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82"/>
          <p:cNvSpPr/>
          <p:nvPr/>
        </p:nvSpPr>
        <p:spPr>
          <a:xfrm>
            <a:off x="0" y="3619440"/>
            <a:ext cx="1838160" cy="642600"/>
          </a:xfrm>
          <a:prstGeom prst="rect">
            <a:avLst/>
          </a:prstGeom>
          <a:solidFill>
            <a:srgbClr val="ed7d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 Narrow"/>
                <a:ea typeface="Tahoma"/>
              </a:rPr>
              <a:t>SUBMEDIDA 13.2. AJUSTE GRUE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11" descr=""/>
          <p:cNvPicPr/>
          <p:nvPr/>
        </p:nvPicPr>
        <p:blipFill>
          <a:blip r:embed="rId2"/>
          <a:stretch/>
        </p:blipFill>
        <p:spPr>
          <a:xfrm>
            <a:off x="2405160" y="1236600"/>
            <a:ext cx="4878360" cy="4689360"/>
          </a:xfrm>
          <a:prstGeom prst="rect">
            <a:avLst/>
          </a:prstGeom>
          <a:ln w="0">
            <a:noFill/>
          </a:ln>
        </p:spPr>
      </p:pic>
      <p:sp>
        <p:nvSpPr>
          <p:cNvPr id="116" name="CuadroTexto 3"/>
          <p:cNvSpPr/>
          <p:nvPr/>
        </p:nvSpPr>
        <p:spPr>
          <a:xfrm>
            <a:off x="0" y="279360"/>
            <a:ext cx="377352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EXTREMAD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Z. L. 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DELIMITACIÓN </a:t>
            </a:r>
            <a:r>
              <a:rPr b="1" lang="es-ES" sz="1800" spc="-1" strike="noStrike">
                <a:solidFill>
                  <a:srgbClr val="ff0000"/>
                </a:solidFill>
                <a:latin typeface="Arial"/>
                <a:ea typeface="Arial"/>
              </a:rPr>
              <a:t>AJUSTE GRUE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Imagen 3" descr=""/>
          <p:cNvPicPr/>
          <p:nvPr/>
        </p:nvPicPr>
        <p:blipFill>
          <a:blip r:embed="rId1"/>
          <a:stretch/>
        </p:blipFill>
        <p:spPr>
          <a:xfrm>
            <a:off x="0" y="6278400"/>
            <a:ext cx="8894880" cy="597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8" name=""/>
          <p:cNvGraphicFramePr/>
          <p:nvPr/>
        </p:nvGraphicFramePr>
        <p:xfrm>
          <a:off x="874800" y="1703520"/>
          <a:ext cx="7386480" cy="2468520"/>
        </p:xfrm>
        <a:graphic>
          <a:graphicData uri="http://schemas.openxmlformats.org/drawingml/2006/table">
            <a:tbl>
              <a:tblPr/>
              <a:tblGrid>
                <a:gridCol w="3371760"/>
                <a:gridCol w="2008080"/>
                <a:gridCol w="2006640"/>
              </a:tblGrid>
              <a:tr h="543960"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ZON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PERÍODO 2007 - 20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PERÍODO 2014 - 20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27468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ctr" pos="2698920"/>
                          <a:tab algn="r" pos="539892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Municipios en zonas de montañ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Municipios en zonas con limitaciones naturales significativ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0000"/>
                          </a:solidFill>
                          <a:latin typeface="Arial Narrow"/>
                          <a:ea typeface="Times New Roman"/>
                        </a:rPr>
                        <a:t>2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Municipios en zonas con limitaciones específic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Municipios sin limitacion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ff0000"/>
                          </a:solidFill>
                          <a:latin typeface="Arial Narrow"/>
                          <a:ea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TOTAL MUNICIPI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8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8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9" name="Rectangle 1"/>
          <p:cNvSpPr/>
          <p:nvPr/>
        </p:nvSpPr>
        <p:spPr>
          <a:xfrm>
            <a:off x="-4680" y="0"/>
            <a:ext cx="9144000" cy="444600"/>
          </a:xfrm>
          <a:prstGeom prst="rect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8 Rectángulo"/>
          <p:cNvSpPr/>
          <p:nvPr/>
        </p:nvSpPr>
        <p:spPr>
          <a:xfrm>
            <a:off x="0" y="-1440"/>
            <a:ext cx="9144000" cy="69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 Narrow"/>
                <a:ea typeface="Arial"/>
              </a:rPr>
              <a:t>ZONAS DISTINTAS DE LAS DE MONTAÑA CON LIMITACIONES NATURALES SIGNIFICATIV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82"/>
          <p:cNvSpPr/>
          <p:nvPr/>
        </p:nvSpPr>
        <p:spPr>
          <a:xfrm>
            <a:off x="0" y="922320"/>
            <a:ext cx="4921200" cy="368280"/>
          </a:xfrm>
          <a:prstGeom prst="rect">
            <a:avLst/>
          </a:prstGeom>
          <a:solidFill>
            <a:srgbClr val="ed7d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 Narrow"/>
                <a:ea typeface="Tahoma"/>
              </a:rPr>
              <a:t>SUBMEDIDA 13.2. AJUSTE GRUESO_AJUSTE FI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ángulo 6"/>
          <p:cNvSpPr/>
          <p:nvPr/>
        </p:nvSpPr>
        <p:spPr>
          <a:xfrm>
            <a:off x="326880" y="3975120"/>
            <a:ext cx="881244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0000"/>
                </a:solidFill>
                <a:latin typeface="Arial Narrow"/>
                <a:ea typeface="Arial"/>
              </a:rPr>
              <a:t>Respecto de los beneficiarios de las zonas que ya no sean subvencionables como consecuencia de la nueva delimitación a que se refiere el artículo 32, apartado 3, </a:t>
            </a:r>
            <a:r>
              <a:rPr b="1" i="1" lang="es-ES" sz="1600" spc="-1" strike="noStrike">
                <a:solidFill>
                  <a:srgbClr val="ff0000"/>
                </a:solidFill>
                <a:latin typeface="Arial Narrow"/>
                <a:ea typeface="Arial"/>
              </a:rPr>
              <a:t>dichos pagos serán </a:t>
            </a:r>
            <a:r>
              <a:rPr b="1" i="1" lang="es-ES" sz="1600" spc="-1" strike="noStrike" u="sng">
                <a:solidFill>
                  <a:srgbClr val="ff0000"/>
                </a:solidFill>
                <a:uFillTx/>
                <a:latin typeface="Arial Narrow"/>
                <a:ea typeface="Arial"/>
              </a:rPr>
              <a:t>decrecientes</a:t>
            </a:r>
            <a:r>
              <a:rPr b="1" i="1" lang="es-ES" sz="1600" spc="-1" strike="noStrike">
                <a:solidFill>
                  <a:srgbClr val="ff0000"/>
                </a:solidFill>
                <a:latin typeface="Arial Narrow"/>
                <a:ea typeface="Arial"/>
              </a:rPr>
              <a:t> durante un período máximo de cuatro años.</a:t>
            </a:r>
            <a:r>
              <a:rPr b="0" i="1" lang="es-ES" sz="1600" spc="-1" strike="noStrike">
                <a:solidFill>
                  <a:srgbClr val="000000"/>
                </a:solidFill>
                <a:latin typeface="Arial Narrow"/>
                <a:ea typeface="Arial"/>
              </a:rPr>
              <a:t> Dicho período se contará a partir de la fecha en que se haya completado la delimitación con arreglo al artículo 33, apartado 3, y a más tardar en 2018. Los pagos empezarán con un máximo del 80 % del promedio del pago que se fije en el programa para el período de programación 2007-2013 de conformidad con el artículo 36, letra a), inciso ii) del Reglamento (CE) n o 1698/2005, y finalizarán en 2020 a más tardar con un máximo del 20 %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Imagen 3" descr=""/>
          <p:cNvPicPr/>
          <p:nvPr/>
        </p:nvPicPr>
        <p:blipFill>
          <a:blip r:embed="rId1"/>
          <a:stretch/>
        </p:blipFill>
        <p:spPr>
          <a:xfrm>
            <a:off x="0" y="6261120"/>
            <a:ext cx="8894880" cy="59688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1"/>
          <p:cNvSpPr/>
          <p:nvPr/>
        </p:nvSpPr>
        <p:spPr>
          <a:xfrm>
            <a:off x="522360" y="461880"/>
            <a:ext cx="7848360" cy="579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 Narrow"/>
                <a:ea typeface="Tahoma"/>
              </a:rPr>
              <a:t>FI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 Narrow"/>
                <a:ea typeface="Tahoma"/>
              </a:rPr>
              <a:t>PRESENT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Imagen 3" descr=""/>
          <p:cNvPicPr/>
          <p:nvPr/>
        </p:nvPicPr>
        <p:blipFill>
          <a:blip r:embed="rId1"/>
          <a:stretch/>
        </p:blipFill>
        <p:spPr>
          <a:xfrm>
            <a:off x="0" y="6270480"/>
            <a:ext cx="8894880" cy="596880"/>
          </a:xfrm>
          <a:prstGeom prst="rect">
            <a:avLst/>
          </a:prstGeom>
          <a:ln w="0">
            <a:noFill/>
          </a:ln>
        </p:spPr>
      </p:pic>
      <p:sp>
        <p:nvSpPr>
          <p:cNvPr id="44" name="Rectángulo 2"/>
          <p:cNvSpPr/>
          <p:nvPr/>
        </p:nvSpPr>
        <p:spPr>
          <a:xfrm>
            <a:off x="420840" y="557280"/>
            <a:ext cx="825660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En los </a:t>
            </a:r>
            <a:r>
              <a:rPr b="1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anteriores períodos de programación</a:t>
            </a:r>
            <a:r>
              <a:rPr b="0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, los criterios empleados para la delimitación de las zonas con limitaciones naturales fuer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49280" algn="just">
              <a:lnSpc>
                <a:spcPct val="100000"/>
              </a:lnSpc>
              <a:buClr>
                <a:srgbClr val="000000"/>
              </a:buClr>
              <a:buFont typeface="Arial Narrow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Zonas desfavorecidas de Montaña</a:t>
            </a:r>
            <a:r>
              <a:rPr b="0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Explotaciones agrarias con una combinación de los dos factores anteriores (</a:t>
            </a:r>
            <a:r>
              <a:rPr b="1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altitud</a:t>
            </a:r>
            <a:r>
              <a:rPr b="0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y pendiente</a:t>
            </a:r>
            <a:r>
              <a:rPr b="0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49280" algn="just">
              <a:lnSpc>
                <a:spcPct val="100000"/>
              </a:lnSpc>
              <a:buClr>
                <a:srgbClr val="000000"/>
              </a:buClr>
              <a:buFont typeface="Arial Narrow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Zonas con riesgo de despoblación</a:t>
            </a:r>
            <a:r>
              <a:rPr b="0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. Condiciones simultáneament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resencia de tierras </a:t>
            </a:r>
            <a:r>
              <a:rPr b="1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oco productivas</a:t>
            </a:r>
            <a:r>
              <a:rPr b="0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. </a:t>
            </a:r>
            <a:r>
              <a:rPr b="1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Índices de caracterización económica agraria muy bajos</a:t>
            </a:r>
            <a:r>
              <a:rPr b="0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con respecto a la med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Escasa densidad, o tendencia a la disminución, de la población </a:t>
            </a:r>
            <a:r>
              <a:rPr b="0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que depende de la actividad agraria y </a:t>
            </a:r>
            <a:r>
              <a:rPr b="1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cuya disminución implicaría la dificultad de mantenimiento de viabilidad la actividad económica y social</a:t>
            </a:r>
            <a:r>
              <a:rPr b="0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c.   Zonas con dificultades especiales</a:t>
            </a:r>
            <a:r>
              <a:rPr b="0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Son aquellas en las que las actividades productivas están limitadas para evitar </a:t>
            </a:r>
            <a:r>
              <a:rPr b="1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su impacto en el hábitat natural</a:t>
            </a:r>
            <a:r>
              <a:rPr b="0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.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 Narrow"/>
                <a:ea typeface="Arial"/>
              </a:rPr>
              <a:t>Mantener en ellas la gestión de las tierras para </a:t>
            </a:r>
            <a:r>
              <a:rPr b="1" lang="es-ES" sz="2000" spc="-1" strike="noStrike">
                <a:solidFill>
                  <a:srgbClr val="000000"/>
                </a:solidFill>
                <a:latin typeface="Arial Narrow"/>
                <a:ea typeface="Arial"/>
              </a:rPr>
              <a:t>preservar o mejorar el medio ambiente</a:t>
            </a:r>
            <a:r>
              <a:rPr b="0" i="1" lang="es-ES" sz="2000" spc="-1" strike="noStrike">
                <a:solidFill>
                  <a:srgbClr val="000000"/>
                </a:solidFill>
                <a:latin typeface="Arial Narrow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"/>
          <p:cNvSpPr/>
          <p:nvPr/>
        </p:nvSpPr>
        <p:spPr>
          <a:xfrm>
            <a:off x="0" y="0"/>
            <a:ext cx="9144000" cy="444600"/>
          </a:xfrm>
          <a:prstGeom prst="rect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8 Rectángulo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 Narrow"/>
                <a:ea typeface="Arial"/>
              </a:rPr>
              <a:t>ANTECEDE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Imagen 3" descr=""/>
          <p:cNvPicPr/>
          <p:nvPr/>
        </p:nvPicPr>
        <p:blipFill>
          <a:blip r:embed="rId1"/>
          <a:stretch/>
        </p:blipFill>
        <p:spPr>
          <a:xfrm>
            <a:off x="0" y="6270480"/>
            <a:ext cx="8894880" cy="596880"/>
          </a:xfrm>
          <a:prstGeom prst="rect">
            <a:avLst/>
          </a:prstGeom>
          <a:ln w="0">
            <a:noFill/>
          </a:ln>
        </p:spPr>
      </p:pic>
      <p:sp>
        <p:nvSpPr>
          <p:cNvPr id="48" name="Rectángulo 2"/>
          <p:cNvSpPr/>
          <p:nvPr/>
        </p:nvSpPr>
        <p:spPr>
          <a:xfrm>
            <a:off x="646200" y="619200"/>
            <a:ext cx="784368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El artículo 32 “Designación de zonas con limitaciones naturales u otras limitaciones específicas “, del </a:t>
            </a:r>
            <a:r>
              <a:rPr b="1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Reglamento (UE) nº 1305/2013 </a:t>
            </a:r>
            <a:r>
              <a:rPr b="0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del Parlamento Europeo y del Consejo de 17 de diciembre de 2013 relativo a la ayuda al desarrollo rural a través del Fondo Europeo Agrícola de Desarrollo Rural (FEADER) y por el que se deroga el Reglamento (CE) nº 1698/2005 del Consejo, determina qu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49280" algn="just">
              <a:lnSpc>
                <a:spcPct val="100000"/>
              </a:lnSpc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Los Estados miembros designarán, sobre la base de los apartados 2, 3 y 4, las zonas que pueden optar a los pagos previstos en el artículo 31 de acuerdo con las siguientes categoría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49280" algn="just">
              <a:lnSpc>
                <a:spcPct val="100000"/>
              </a:lnSpc>
              <a:buClr>
                <a:srgbClr val="0070c0"/>
              </a:buClr>
              <a:buFont typeface="Arial Narrow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 u="sng">
                <a:solidFill>
                  <a:srgbClr val="0070c0"/>
                </a:solidFill>
                <a:uFillTx/>
                <a:latin typeface="Arial Narrow"/>
                <a:ea typeface="Times New Roman"/>
              </a:rPr>
              <a:t>Zonas de montaña</a:t>
            </a:r>
            <a:r>
              <a:rPr b="1" i="1" lang="es-ES" sz="2000" spc="-1" strike="noStrike">
                <a:solidFill>
                  <a:srgbClr val="0070c0"/>
                </a:solidFill>
                <a:latin typeface="Arial Narrow"/>
                <a:ea typeface="Times New Roman"/>
              </a:rPr>
              <a:t> (Submedida 13.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49280" algn="just">
              <a:lnSpc>
                <a:spcPct val="100000"/>
              </a:lnSpc>
              <a:buClr>
                <a:srgbClr val="000000"/>
              </a:buClr>
              <a:buFont typeface="Arial Narrow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49280" algn="just">
              <a:lnSpc>
                <a:spcPct val="100000"/>
              </a:lnSpc>
              <a:buClr>
                <a:srgbClr val="0070c0"/>
              </a:buClr>
              <a:buFont typeface="Arial Narrow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 u="sng">
                <a:solidFill>
                  <a:srgbClr val="0070c0"/>
                </a:solidFill>
                <a:uFillTx/>
                <a:latin typeface="Arial Narrow"/>
                <a:ea typeface="Times New Roman"/>
              </a:rPr>
              <a:t>Zonas distintas de las de montaña con limitaciones naturales significativas</a:t>
            </a:r>
            <a:r>
              <a:rPr b="1" i="1" lang="es-ES" sz="2000" spc="-1" strike="noStrike">
                <a:solidFill>
                  <a:srgbClr val="0070c0"/>
                </a:solidFill>
                <a:latin typeface="Arial Narrow"/>
                <a:ea typeface="Times New Roman"/>
              </a:rPr>
              <a:t> (Submedida 13.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49280" algn="just">
              <a:lnSpc>
                <a:spcPct val="100000"/>
              </a:lnSpc>
              <a:buClr>
                <a:srgbClr val="0070c0"/>
              </a:buClr>
              <a:buFont typeface="Arial Narrow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49280" algn="just">
              <a:lnSpc>
                <a:spcPct val="100000"/>
              </a:lnSpc>
              <a:buClr>
                <a:srgbClr val="0070c0"/>
              </a:buClr>
              <a:buFont typeface="Arial Narrow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 u="sng">
                <a:solidFill>
                  <a:srgbClr val="0070c0"/>
                </a:solidFill>
                <a:uFillTx/>
                <a:latin typeface="Arial Narrow"/>
                <a:ea typeface="Times New Roman"/>
              </a:rPr>
              <a:t>Otras zonas con limitaciones específicas</a:t>
            </a:r>
            <a:r>
              <a:rPr b="1" i="1" lang="es-ES" sz="2000" spc="-1" strike="noStrike">
                <a:solidFill>
                  <a:srgbClr val="0070c0"/>
                </a:solidFill>
                <a:latin typeface="Arial Narrow"/>
                <a:ea typeface="Times New Roman"/>
              </a:rPr>
              <a:t> (Submedida 13.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"/>
          <p:cNvSpPr/>
          <p:nvPr/>
        </p:nvSpPr>
        <p:spPr>
          <a:xfrm>
            <a:off x="0" y="0"/>
            <a:ext cx="9144000" cy="444600"/>
          </a:xfrm>
          <a:prstGeom prst="rect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8 Rectángulo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 Narrow"/>
                <a:ea typeface="Arial"/>
              </a:rPr>
              <a:t>PROGRAMA OPERATIVO 2014-20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Imagen 3" descr=""/>
          <p:cNvPicPr/>
          <p:nvPr/>
        </p:nvPicPr>
        <p:blipFill>
          <a:blip r:embed="rId1"/>
          <a:stretch/>
        </p:blipFill>
        <p:spPr>
          <a:xfrm>
            <a:off x="0" y="6270480"/>
            <a:ext cx="8894880" cy="596880"/>
          </a:xfrm>
          <a:prstGeom prst="rect">
            <a:avLst/>
          </a:prstGeom>
          <a:ln w="0">
            <a:noFill/>
          </a:ln>
        </p:spPr>
      </p:pic>
      <p:sp>
        <p:nvSpPr>
          <p:cNvPr id="52" name="Rectángulo 2"/>
          <p:cNvSpPr/>
          <p:nvPr/>
        </p:nvSpPr>
        <p:spPr>
          <a:xfrm>
            <a:off x="523800" y="538200"/>
            <a:ext cx="8096400" cy="55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ODRÁN OPTAR A LOS PAG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Unidades Administrativas Locales </a:t>
            </a:r>
            <a:r>
              <a:rPr b="0" lang="es-ES" sz="2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(LAU 2) o en el nivel de una unidad local claramente delimitada que cubra una sola zona geográfica contigua precisa, dotada de una identidad económica y administrativa que, </a:t>
            </a:r>
            <a:r>
              <a:rPr b="1" lang="es-ES" sz="2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al menos, el 60 % de la superficie agrícola</a:t>
            </a:r>
            <a:r>
              <a:rPr b="0" lang="es-ES" sz="2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, cumple, </a:t>
            </a:r>
            <a:r>
              <a:rPr b="1" lang="es-ES" sz="2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como mínimo, uno </a:t>
            </a:r>
            <a:r>
              <a:rPr b="0" lang="es-ES" sz="2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de los criterios enumerados en el anexo III del Reglamento 1305/2013. </a:t>
            </a:r>
            <a:r>
              <a:rPr b="1" lang="es-ES" sz="2200" spc="-1" strike="noStrike">
                <a:solidFill>
                  <a:srgbClr val="ff0000"/>
                </a:solidFill>
                <a:latin typeface="Arial Narrow"/>
                <a:ea typeface="Times New Roman"/>
              </a:rPr>
              <a:t>“AJUSTE GRUESO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Los Estados miembros </a:t>
            </a:r>
            <a:r>
              <a:rPr b="1" lang="es-ES" sz="2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deberán llevar a cabo una delimitación </a:t>
            </a:r>
            <a:r>
              <a:rPr b="1" lang="es-ES" sz="2200" spc="-1" strike="noStrike" u="sng">
                <a:solidFill>
                  <a:srgbClr val="000000"/>
                </a:solidFill>
                <a:uFillTx/>
                <a:latin typeface="Arial Narrow"/>
                <a:ea typeface="Times New Roman"/>
              </a:rPr>
              <a:t>precisa</a:t>
            </a:r>
            <a:r>
              <a:rPr b="1" lang="es-ES" sz="2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, con arreglo a </a:t>
            </a:r>
            <a:r>
              <a:rPr b="1" lang="es-ES" sz="2200" spc="-1" strike="noStrike" u="sng">
                <a:solidFill>
                  <a:srgbClr val="000000"/>
                </a:solidFill>
                <a:uFillTx/>
                <a:latin typeface="Arial Narrow"/>
                <a:ea typeface="Times New Roman"/>
              </a:rPr>
              <a:t>criterios objetivos</a:t>
            </a:r>
            <a:r>
              <a:rPr b="1" lang="es-ES" sz="2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, con el fin de </a:t>
            </a:r>
            <a:r>
              <a:rPr b="1" lang="es-ES" sz="2200" spc="-1" strike="noStrike" u="sng">
                <a:solidFill>
                  <a:srgbClr val="000000"/>
                </a:solidFill>
                <a:uFillTx/>
                <a:latin typeface="Arial Narrow"/>
                <a:ea typeface="Times New Roman"/>
              </a:rPr>
              <a:t>excluir </a:t>
            </a:r>
            <a:r>
              <a:rPr b="1" lang="es-ES" sz="2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las zonas en que se hayan documentado limitaciones naturales significativas pero que </a:t>
            </a:r>
            <a:r>
              <a:rPr b="1" lang="es-ES" sz="2200" spc="-1" strike="noStrike" u="sng">
                <a:solidFill>
                  <a:srgbClr val="000000"/>
                </a:solidFill>
                <a:uFillTx/>
                <a:latin typeface="Arial Narrow"/>
                <a:ea typeface="Times New Roman"/>
              </a:rPr>
              <a:t>hayan superado tales limitaciones como consecuencia de las inversiones o la actividad económica</a:t>
            </a:r>
            <a:r>
              <a:rPr b="1" lang="es-ES" sz="2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. </a:t>
            </a:r>
            <a:r>
              <a:rPr b="1" lang="es-ES" sz="2200" spc="-1" strike="noStrike">
                <a:solidFill>
                  <a:srgbClr val="ff0000"/>
                </a:solidFill>
                <a:latin typeface="Arial Narrow"/>
                <a:ea typeface="Times New Roman"/>
              </a:rPr>
              <a:t>“AJUSTE FINO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"/>
          <p:cNvSpPr/>
          <p:nvPr/>
        </p:nvSpPr>
        <p:spPr>
          <a:xfrm>
            <a:off x="0" y="0"/>
            <a:ext cx="9144000" cy="444600"/>
          </a:xfrm>
          <a:prstGeom prst="rect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8 Rectángulo"/>
          <p:cNvSpPr/>
          <p:nvPr/>
        </p:nvSpPr>
        <p:spPr>
          <a:xfrm>
            <a:off x="0" y="0"/>
            <a:ext cx="9144000" cy="69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 Narrow"/>
                <a:ea typeface="Arial"/>
              </a:rPr>
              <a:t>ZONAS DISTINTAS DE LAS DE MONTAÑA CON LIMITACIONES NATURALES SIGNIFICATIV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82"/>
          <p:cNvSpPr/>
          <p:nvPr/>
        </p:nvSpPr>
        <p:spPr>
          <a:xfrm>
            <a:off x="0" y="606600"/>
            <a:ext cx="4211640" cy="368280"/>
          </a:xfrm>
          <a:prstGeom prst="rect">
            <a:avLst/>
          </a:prstGeom>
          <a:solidFill>
            <a:srgbClr val="ed7d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 Narrow"/>
                <a:ea typeface="Tahoma"/>
              </a:rPr>
              <a:t>SUBMEDIDA 1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Imagen 3" descr=""/>
          <p:cNvPicPr/>
          <p:nvPr/>
        </p:nvPicPr>
        <p:blipFill>
          <a:blip r:embed="rId1"/>
          <a:stretch/>
        </p:blipFill>
        <p:spPr>
          <a:xfrm>
            <a:off x="0" y="6270480"/>
            <a:ext cx="8894880" cy="596880"/>
          </a:xfrm>
          <a:prstGeom prst="rect">
            <a:avLst/>
          </a:prstGeom>
          <a:ln w="0">
            <a:noFill/>
          </a:ln>
        </p:spPr>
      </p:pic>
      <p:sp>
        <p:nvSpPr>
          <p:cNvPr id="57" name="Rectángulo 2"/>
          <p:cNvSpPr/>
          <p:nvPr/>
        </p:nvSpPr>
        <p:spPr>
          <a:xfrm>
            <a:off x="385920" y="1031760"/>
            <a:ext cx="850896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 </a:t>
            </a:r>
            <a:r>
              <a:rPr b="0" lang="es-ES" sz="2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En el actual </a:t>
            </a:r>
            <a:r>
              <a:rPr b="1" lang="es-ES" sz="2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rograma de Desarrollo Rural 2014-2020, Submedida 13.2 Pago de compensación para otras áreas que afrontan limitaciones naturales considerables</a:t>
            </a:r>
            <a:r>
              <a:rPr b="0" lang="es-ES" sz="2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, apartado 8.2.11.3.2.6. </a:t>
            </a:r>
            <a:r>
              <a:rPr b="0" i="1" lang="es-ES" sz="2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Condiciones de admisibilidad</a:t>
            </a:r>
            <a:r>
              <a:rPr b="0" lang="es-ES" sz="2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, establec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“</a:t>
            </a:r>
            <a:r>
              <a:rPr b="0" i="1" lang="es-ES" sz="2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En relación con las zona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Según lo establecido en el apartado 5 del artículo 31 del Reglamento (UE) 1305/2013, los Estados miembros aplicarán la nueva delimitación, </a:t>
            </a:r>
            <a:r>
              <a:rPr b="1" i="1" lang="es-ES" sz="2200" spc="-1" strike="noStrike">
                <a:solidFill>
                  <a:srgbClr val="ff0000"/>
                </a:solidFill>
                <a:latin typeface="Arial Narrow"/>
                <a:ea typeface="Times New Roman"/>
              </a:rPr>
              <a:t>a más tardar en 2018</a:t>
            </a:r>
            <a:r>
              <a:rPr b="0" i="1" lang="es-ES" sz="2200" spc="-1" strike="noStrike">
                <a:solidFill>
                  <a:srgbClr val="ff0000"/>
                </a:solidFill>
                <a:latin typeface="Arial Narrow"/>
                <a:ea typeface="Times New Roman"/>
              </a:rPr>
              <a:t>, </a:t>
            </a:r>
            <a:r>
              <a:rPr b="1" i="1" lang="es-ES" sz="2200" spc="-1" strike="noStrike">
                <a:solidFill>
                  <a:srgbClr val="ff0000"/>
                </a:solidFill>
                <a:latin typeface="Arial Narrow"/>
                <a:ea typeface="Times New Roman"/>
              </a:rPr>
              <a:t>mientras se continuará con la del período 2007-2013</a:t>
            </a:r>
            <a:r>
              <a:rPr b="0" i="1" lang="es-ES" sz="2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; (…).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"/>
          <p:cNvSpPr/>
          <p:nvPr/>
        </p:nvSpPr>
        <p:spPr>
          <a:xfrm>
            <a:off x="0" y="0"/>
            <a:ext cx="9144000" cy="444600"/>
          </a:xfrm>
          <a:prstGeom prst="rect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8 Rectángulo"/>
          <p:cNvSpPr/>
          <p:nvPr/>
        </p:nvSpPr>
        <p:spPr>
          <a:xfrm>
            <a:off x="0" y="0"/>
            <a:ext cx="9144000" cy="69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 Narrow"/>
                <a:ea typeface="Arial"/>
              </a:rPr>
              <a:t>ZONAS DISTINTAS DE LAS DE MONTAÑA CON LIMITACIONES NATURALES SIGNIFICATIV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82"/>
          <p:cNvSpPr/>
          <p:nvPr/>
        </p:nvSpPr>
        <p:spPr>
          <a:xfrm>
            <a:off x="0" y="606600"/>
            <a:ext cx="4211640" cy="368280"/>
          </a:xfrm>
          <a:prstGeom prst="rect">
            <a:avLst/>
          </a:prstGeom>
          <a:solidFill>
            <a:srgbClr val="ed7d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 Narrow"/>
                <a:ea typeface="Tahoma"/>
              </a:rPr>
              <a:t>SUBMEDIDA 1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Imagen 3" descr=""/>
          <p:cNvPicPr/>
          <p:nvPr/>
        </p:nvPicPr>
        <p:blipFill>
          <a:blip r:embed="rId1"/>
          <a:stretch/>
        </p:blipFill>
        <p:spPr>
          <a:xfrm>
            <a:off x="0" y="6270480"/>
            <a:ext cx="8894880" cy="596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2" name=""/>
          <p:cNvGraphicFramePr/>
          <p:nvPr/>
        </p:nvGraphicFramePr>
        <p:xfrm>
          <a:off x="628560" y="2763720"/>
          <a:ext cx="8266320" cy="2438640"/>
        </p:xfrm>
        <a:graphic>
          <a:graphicData uri="http://schemas.openxmlformats.org/drawingml/2006/table">
            <a:tbl>
              <a:tblPr/>
              <a:tblGrid>
                <a:gridCol w="1928880"/>
                <a:gridCol w="4383000"/>
                <a:gridCol w="1954440"/>
              </a:tblGrid>
              <a:tr h="305280"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CRITER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DEFINI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UMBR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915120"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Aridez (o sequí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Relación entre las precipitaciones anuales (P) y la evapotranspiración potencial anual (ETP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0000"/>
                          </a:solidFill>
                          <a:latin typeface="Arial Narrow"/>
                          <a:ea typeface="Times New Roman"/>
                        </a:rPr>
                        <a:t>P / ETP ≤ 0,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0200"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Textura y dureza desfavorab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Elementos gruesos en el suelo (% volumétrico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0000"/>
                          </a:solidFill>
                          <a:latin typeface="Arial Narrow"/>
                          <a:ea typeface="Times New Roman"/>
                        </a:rPr>
                        <a:t>≥ </a:t>
                      </a:r>
                      <a:r>
                        <a:rPr b="1" lang="es-ES" sz="2000" spc="-1" strike="noStrike">
                          <a:solidFill>
                            <a:srgbClr val="ff0000"/>
                          </a:solidFill>
                          <a:latin typeface="Arial Narrow"/>
                          <a:ea typeface="Times New Roman"/>
                        </a:rPr>
                        <a:t>15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0200"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Pendiente escarpad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Cambio de elevación respecto a la distancia planimétrica (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0000"/>
                          </a:solidFill>
                          <a:latin typeface="Arial Narrow"/>
                          <a:ea typeface="Times New Roman"/>
                        </a:rPr>
                        <a:t>≥ </a:t>
                      </a:r>
                      <a:r>
                        <a:rPr b="1" lang="es-ES" sz="2000" spc="-1" strike="noStrike">
                          <a:solidFill>
                            <a:srgbClr val="ff0000"/>
                          </a:solidFill>
                          <a:latin typeface="Arial Narrow"/>
                          <a:ea typeface="Times New Roman"/>
                        </a:rPr>
                        <a:t>15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3" name="Rectangle 1"/>
          <p:cNvSpPr/>
          <p:nvPr/>
        </p:nvSpPr>
        <p:spPr>
          <a:xfrm>
            <a:off x="0" y="0"/>
            <a:ext cx="9144000" cy="444600"/>
          </a:xfrm>
          <a:prstGeom prst="rect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8 Rectángulo"/>
          <p:cNvSpPr/>
          <p:nvPr/>
        </p:nvSpPr>
        <p:spPr>
          <a:xfrm>
            <a:off x="0" y="0"/>
            <a:ext cx="9144000" cy="69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 Narrow"/>
                <a:ea typeface="Arial"/>
              </a:rPr>
              <a:t>ZONAS DISTINTAS DE LAS DE MONTAÑA CON LIMITACIONES NATURALES SIGNIFICATIV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82"/>
          <p:cNvSpPr/>
          <p:nvPr/>
        </p:nvSpPr>
        <p:spPr>
          <a:xfrm>
            <a:off x="0" y="606600"/>
            <a:ext cx="4211640" cy="368280"/>
          </a:xfrm>
          <a:prstGeom prst="rect">
            <a:avLst/>
          </a:prstGeom>
          <a:solidFill>
            <a:srgbClr val="ed7d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 Narrow"/>
                <a:ea typeface="Tahoma"/>
              </a:rPr>
              <a:t>SUBMEDIDA 13.2. AJUSTE GRUE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ángulo 6"/>
          <p:cNvSpPr/>
          <p:nvPr/>
        </p:nvSpPr>
        <p:spPr>
          <a:xfrm>
            <a:off x="628560" y="1376280"/>
            <a:ext cx="8266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La metodología empleada aparece desarrollada y justificada en el Marco Nacional, </a:t>
            </a:r>
            <a:r>
              <a:rPr b="1" lang="es-ES" sz="2000" spc="-1" strike="noStrike">
                <a:solidFill>
                  <a:srgbClr val="000000"/>
                </a:solidFill>
                <a:latin typeface="Arial Narrow"/>
                <a:ea typeface="Arial"/>
              </a:rPr>
              <a:t>adoptado por la Comisión el </a:t>
            </a:r>
            <a:r>
              <a:rPr b="1" lang="es-ES" sz="2000" spc="-1" strike="noStrike">
                <a:solidFill>
                  <a:srgbClr val="ff0000"/>
                </a:solidFill>
                <a:latin typeface="Arial Narrow"/>
                <a:ea typeface="Arial"/>
              </a:rPr>
              <a:t>día 13 de febrero de 20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Imagen 3" descr=""/>
          <p:cNvPicPr/>
          <p:nvPr/>
        </p:nvPicPr>
        <p:blipFill>
          <a:blip r:embed="rId1"/>
          <a:stretch/>
        </p:blipFill>
        <p:spPr>
          <a:xfrm>
            <a:off x="0" y="6270480"/>
            <a:ext cx="8894880" cy="596880"/>
          </a:xfrm>
          <a:prstGeom prst="rect">
            <a:avLst/>
          </a:prstGeom>
          <a:ln w="0">
            <a:noFill/>
          </a:ln>
        </p:spPr>
      </p:pic>
      <p:pic>
        <p:nvPicPr>
          <p:cNvPr id="68" name="Imagen 2" descr=""/>
          <p:cNvPicPr/>
          <p:nvPr/>
        </p:nvPicPr>
        <p:blipFill>
          <a:blip r:embed="rId2"/>
          <a:stretch/>
        </p:blipFill>
        <p:spPr>
          <a:xfrm>
            <a:off x="7920" y="0"/>
            <a:ext cx="4438800" cy="3106800"/>
          </a:xfrm>
          <a:prstGeom prst="rect">
            <a:avLst/>
          </a:prstGeom>
          <a:ln w="0">
            <a:noFill/>
          </a:ln>
        </p:spPr>
      </p:pic>
      <p:pic>
        <p:nvPicPr>
          <p:cNvPr id="69" name="Imagen 3" descr=""/>
          <p:cNvPicPr/>
          <p:nvPr/>
        </p:nvPicPr>
        <p:blipFill>
          <a:blip r:embed="rId3"/>
          <a:stretch/>
        </p:blipFill>
        <p:spPr>
          <a:xfrm>
            <a:off x="4700520" y="0"/>
            <a:ext cx="4429080" cy="3106800"/>
          </a:xfrm>
          <a:prstGeom prst="rect">
            <a:avLst/>
          </a:prstGeom>
          <a:ln w="0">
            <a:noFill/>
          </a:ln>
        </p:spPr>
      </p:pic>
      <p:pic>
        <p:nvPicPr>
          <p:cNvPr id="70" name="Imagen 5" descr=""/>
          <p:cNvPicPr/>
          <p:nvPr/>
        </p:nvPicPr>
        <p:blipFill>
          <a:blip r:embed="rId4"/>
          <a:stretch/>
        </p:blipFill>
        <p:spPr>
          <a:xfrm>
            <a:off x="4700520" y="3147840"/>
            <a:ext cx="4443480" cy="3122640"/>
          </a:xfrm>
          <a:prstGeom prst="rect">
            <a:avLst/>
          </a:prstGeom>
          <a:ln w="0">
            <a:noFill/>
          </a:ln>
        </p:spPr>
      </p:pic>
      <p:pic>
        <p:nvPicPr>
          <p:cNvPr id="71" name="Imagen 7" descr=""/>
          <p:cNvPicPr/>
          <p:nvPr/>
        </p:nvPicPr>
        <p:blipFill>
          <a:blip r:embed="rId5"/>
          <a:stretch/>
        </p:blipFill>
        <p:spPr>
          <a:xfrm>
            <a:off x="0" y="3156120"/>
            <a:ext cx="4440240" cy="31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Imagen 3" descr=""/>
          <p:cNvPicPr/>
          <p:nvPr/>
        </p:nvPicPr>
        <p:blipFill>
          <a:blip r:embed="rId1"/>
          <a:stretch/>
        </p:blipFill>
        <p:spPr>
          <a:xfrm>
            <a:off x="0" y="6270480"/>
            <a:ext cx="8894880" cy="596880"/>
          </a:xfrm>
          <a:prstGeom prst="rect">
            <a:avLst/>
          </a:prstGeom>
          <a:ln w="0">
            <a:noFill/>
          </a:ln>
        </p:spPr>
      </p:pic>
      <p:pic>
        <p:nvPicPr>
          <p:cNvPr id="73" name="Imagen 2" descr=""/>
          <p:cNvPicPr/>
          <p:nvPr/>
        </p:nvPicPr>
        <p:blipFill>
          <a:blip r:embed="rId2"/>
          <a:stretch/>
        </p:blipFill>
        <p:spPr>
          <a:xfrm>
            <a:off x="4737240" y="-6480"/>
            <a:ext cx="4406760" cy="3095640"/>
          </a:xfrm>
          <a:prstGeom prst="rect">
            <a:avLst/>
          </a:prstGeom>
          <a:ln w="0">
            <a:noFill/>
          </a:ln>
        </p:spPr>
      </p:pic>
      <p:pic>
        <p:nvPicPr>
          <p:cNvPr id="74" name="Imagen 4" descr=""/>
          <p:cNvPicPr/>
          <p:nvPr/>
        </p:nvPicPr>
        <p:blipFill>
          <a:blip r:embed="rId3"/>
          <a:stretch/>
        </p:blipFill>
        <p:spPr>
          <a:xfrm>
            <a:off x="0" y="3121200"/>
            <a:ext cx="4483080" cy="3149280"/>
          </a:xfrm>
          <a:prstGeom prst="rect">
            <a:avLst/>
          </a:prstGeom>
          <a:ln w="0">
            <a:noFill/>
          </a:ln>
        </p:spPr>
      </p:pic>
      <p:pic>
        <p:nvPicPr>
          <p:cNvPr id="75" name="Imagen 6" descr=""/>
          <p:cNvPicPr/>
          <p:nvPr/>
        </p:nvPicPr>
        <p:blipFill>
          <a:blip r:embed="rId4"/>
          <a:stretch/>
        </p:blipFill>
        <p:spPr>
          <a:xfrm>
            <a:off x="0" y="0"/>
            <a:ext cx="4483080" cy="3089160"/>
          </a:xfrm>
          <a:prstGeom prst="rect">
            <a:avLst/>
          </a:prstGeom>
          <a:ln w="0">
            <a:noFill/>
          </a:ln>
        </p:spPr>
      </p:pic>
      <p:pic>
        <p:nvPicPr>
          <p:cNvPr id="76" name="Imagen 7" descr=""/>
          <p:cNvPicPr/>
          <p:nvPr/>
        </p:nvPicPr>
        <p:blipFill>
          <a:blip r:embed="rId5"/>
          <a:stretch/>
        </p:blipFill>
        <p:spPr>
          <a:xfrm>
            <a:off x="4737240" y="3176640"/>
            <a:ext cx="4406760" cy="30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Imagen 3" descr=""/>
          <p:cNvPicPr/>
          <p:nvPr/>
        </p:nvPicPr>
        <p:blipFill>
          <a:blip r:embed="rId1"/>
          <a:stretch/>
        </p:blipFill>
        <p:spPr>
          <a:xfrm>
            <a:off x="0" y="6270480"/>
            <a:ext cx="8894880" cy="5968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5" descr=""/>
          <p:cNvPicPr/>
          <p:nvPr/>
        </p:nvPicPr>
        <p:blipFill>
          <a:blip r:embed="rId2"/>
          <a:stretch/>
        </p:blipFill>
        <p:spPr>
          <a:xfrm>
            <a:off x="0" y="0"/>
            <a:ext cx="8913960" cy="6300720"/>
          </a:xfrm>
          <a:prstGeom prst="rect">
            <a:avLst/>
          </a:prstGeom>
          <a:ln w="0">
            <a:noFill/>
          </a:ln>
        </p:spPr>
      </p:pic>
      <p:sp>
        <p:nvSpPr>
          <p:cNvPr id="79" name="Text Box 82"/>
          <p:cNvSpPr/>
          <p:nvPr/>
        </p:nvSpPr>
        <p:spPr>
          <a:xfrm>
            <a:off x="0" y="3619440"/>
            <a:ext cx="1838160" cy="642600"/>
          </a:xfrm>
          <a:prstGeom prst="rect">
            <a:avLst/>
          </a:prstGeom>
          <a:solidFill>
            <a:srgbClr val="ed7d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 Narrow"/>
                <a:ea typeface="Tahoma"/>
              </a:rPr>
              <a:t>SUBMEDIDA 13.2. AJUSTE GRUE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3-25T21:03:59Z</dcterms:created>
  <dc:creator>Usuario</dc:creator>
  <dc:description/>
  <dc:language>en-US</dc:language>
  <cp:lastModifiedBy>Usuario</cp:lastModifiedBy>
  <dcterms:modified xsi:type="dcterms:W3CDTF">2017-06-20T08:12:32Z</dcterms:modified>
  <cp:revision>41</cp:revision>
  <dc:subject/>
  <dc:title>Presentación de PowerPoint</dc:title>
</cp:coreProperties>
</file>